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1E5E-0C51-4F9C-94FF-18F34B8A9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CFE5-F851-45AC-8397-4A44E4DB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52FE-BF32-4B73-B6EA-F79B0BF6B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C206-4E72-4859-86CC-D9FC6DDAF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679D-C20B-4FD6-8C23-AD81C50B9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AC97-DB86-45AC-AED3-5C3576EA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CC01-FC0C-405D-91ED-4F2B7173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4BCA-E50A-4DED-AB34-CAEF40FD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C4DD-B5DD-484F-B883-E870DEE3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DFB6-1663-4AA3-9A96-67FF3754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ACEB-D224-43D7-8BFB-264781AF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6302-8966-4D79-90FD-9874CCE4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CD5D-79BB-45C1-BC6F-3344B8BE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67D0-F9EB-42DD-ABCE-3DCECD59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6FD0-0D83-4302-BA9B-72FC2BDF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DB8F-CA42-4444-98C4-3186209FF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22A7-E5BD-4656-B5C5-DE43942C6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4B00-3E79-4B31-92E2-8040782C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19F6-07EB-467A-A8C8-2910A517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21CF-151C-419D-867B-E3E7C7FF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1653-5FAD-4DAE-B830-ECB17708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1B08-0128-458D-958E-E2A12812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2B29-7D8D-4014-A051-AE98E4B5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1AFE-934D-4FF0-A32F-383859AE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FDB8-F34D-4AD7-8EAA-42AA26BDBCE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31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032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3040-85E9-4E38-8CCB-31E35640FDA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Housing I</a:t>
            </a:r>
            <a:br>
              <a:rPr sz="5000"/>
            </a:b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7.04 Storag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erences: Homes &amp; Interiors, p 538-5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is Web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SFC Public Schoo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Arranging items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nge items according t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requency –of- use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how often they are u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ng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only used ite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locations that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in rea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ccessible) to every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_33620__88460__"/>
          <p:cNvPicPr/>
          <p:nvPr/>
        </p:nvPicPr>
        <p:blipFill>
          <a:blip r:embed="rId1"/>
          <a:stretch/>
        </p:blipFill>
        <p:spPr>
          <a:xfrm>
            <a:off x="5943600" y="259092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533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safety, put medicines, cleaning products &amp; oth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isons out of rea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abel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iners and keep a list of what is where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Med-cab-lock-02"/>
          <p:cNvPicPr/>
          <p:nvPr/>
        </p:nvPicPr>
        <p:blipFill>
          <a:blip r:embed="rId1"/>
          <a:stretch/>
        </p:blipFill>
        <p:spPr>
          <a:xfrm>
            <a:off x="6095880" y="685800"/>
            <a:ext cx="2505240" cy="2095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2070455084_4c6131fc7f_o"/>
          <p:cNvPicPr/>
          <p:nvPr/>
        </p:nvPicPr>
        <p:blipFill>
          <a:blip r:embed="rId2"/>
          <a:stretch/>
        </p:blipFill>
        <p:spPr>
          <a:xfrm>
            <a:off x="2057400" y="3886200"/>
            <a:ext cx="47624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Guidelines for Storage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724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storage needs by decid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what needs to be st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where it needs to be sto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Analyze existing storage to determine how it can be maximiz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 add shelf or h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pantryhooks"/>
          <p:cNvPicPr/>
          <p:nvPr/>
        </p:nvPicPr>
        <p:blipFill>
          <a:blip r:embed="rId1"/>
          <a:stretch/>
        </p:blipFill>
        <p:spPr>
          <a:xfrm>
            <a:off x="6019920" y="4419720"/>
            <a:ext cx="1809720" cy="2133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MessyRoom"/>
          <p:cNvPicPr/>
          <p:nvPr/>
        </p:nvPicPr>
        <p:blipFill>
          <a:blip r:embed="rId2"/>
          <a:stretch/>
        </p:blipFill>
        <p:spPr>
          <a:xfrm>
            <a:off x="4876920" y="1295280"/>
            <a:ext cx="394308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age can b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visible/shelv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o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hidden/behind doors or in drawer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White2430openShelfUP"/>
          <p:cNvPicPr/>
          <p:nvPr/>
        </p:nvPicPr>
        <p:blipFill>
          <a:blip r:embed="rId1"/>
          <a:stretch/>
        </p:blipFill>
        <p:spPr>
          <a:xfrm>
            <a:off x="304920" y="2590920"/>
            <a:ext cx="2187360" cy="3281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hopkins_shelf_life_oct_05"/>
          <p:cNvPicPr/>
          <p:nvPr/>
        </p:nvPicPr>
        <p:blipFill>
          <a:blip r:embed="rId2"/>
          <a:stretch/>
        </p:blipFill>
        <p:spPr>
          <a:xfrm>
            <a:off x="3352680" y="2438280"/>
            <a:ext cx="2065320" cy="2762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0847"/>
          <p:cNvPicPr/>
          <p:nvPr/>
        </p:nvPicPr>
        <p:blipFill>
          <a:blip r:embed="rId3"/>
          <a:stretch/>
        </p:blipFill>
        <p:spPr>
          <a:xfrm>
            <a:off x="5791320" y="3505320"/>
            <a:ext cx="308592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6840" y="761760"/>
            <a:ext cx="35053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age can b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uilt-i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ich is attached to walls and can not be mo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shelf3"/>
          <p:cNvPicPr/>
          <p:nvPr/>
        </p:nvPicPr>
        <p:blipFill>
          <a:blip r:embed="rId1"/>
          <a:stretch/>
        </p:blipFill>
        <p:spPr>
          <a:xfrm>
            <a:off x="4572000" y="259092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djus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el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bc-810x800x300"/>
          <p:cNvPicPr/>
          <p:nvPr/>
        </p:nvPicPr>
        <p:blipFill>
          <a:blip r:embed="rId1"/>
          <a:stretch/>
        </p:blipFill>
        <p:spPr>
          <a:xfrm>
            <a:off x="5486400" y="2666880"/>
            <a:ext cx="3166920" cy="3167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Adjustable%20shelf%20close-up"/>
          <p:cNvPicPr/>
          <p:nvPr/>
        </p:nvPicPr>
        <p:blipFill>
          <a:blip r:embed="rId2"/>
          <a:stretch/>
        </p:blipFill>
        <p:spPr>
          <a:xfrm>
            <a:off x="1143000" y="3124080"/>
            <a:ext cx="380988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09120" y="45720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odul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age(storage with different parts that can fit together in different way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Boost-modules001"/>
          <p:cNvPicPr/>
          <p:nvPr/>
        </p:nvPicPr>
        <p:blipFill>
          <a:blip r:embed="rId1"/>
          <a:stretch/>
        </p:blipFill>
        <p:spPr>
          <a:xfrm>
            <a:off x="5334120" y="2514600"/>
            <a:ext cx="3200400" cy="4048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holdco_400_01"/>
          <p:cNvPicPr/>
          <p:nvPr/>
        </p:nvPicPr>
        <p:blipFill>
          <a:blip r:embed="rId2"/>
          <a:stretch/>
        </p:blipFill>
        <p:spPr>
          <a:xfrm>
            <a:off x="609480" y="2895480"/>
            <a:ext cx="381024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ortable/ mobil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age can be moved. Ex. Rolling carts, shoe racks that can be mo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CBS040MS-1"/>
          <p:cNvPicPr/>
          <p:nvPr/>
        </p:nvPicPr>
        <p:blipFill>
          <a:blip r:embed="rId1"/>
          <a:stretch/>
        </p:blipFill>
        <p:spPr>
          <a:xfrm>
            <a:off x="5029200" y="1981080"/>
            <a:ext cx="3238560" cy="3810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103778"/>
          <p:cNvPicPr/>
          <p:nvPr/>
        </p:nvPicPr>
        <p:blipFill>
          <a:blip r:embed="rId2"/>
          <a:stretch/>
        </p:blipFill>
        <p:spPr>
          <a:xfrm>
            <a:off x="838080" y="2895480"/>
            <a:ext cx="337212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495320" y="1294920"/>
            <a:ext cx="43434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mmon-use- storag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used by all/most members of the home. Linen closet, kitchen cabinets, armoire in living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ms that a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isib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easier to fi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2018"/>
          <p:cNvPicPr/>
          <p:nvPr/>
        </p:nvPicPr>
        <p:blipFill>
          <a:blip r:embed="rId1"/>
          <a:stretch/>
        </p:blipFill>
        <p:spPr>
          <a:xfrm>
            <a:off x="228600" y="2209680"/>
            <a:ext cx="3886200" cy="33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ertical storag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doors &amp; w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hooks to hang mops, sports equipment, outdoor/lawn equip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sil7-95-06"/>
          <p:cNvPicPr/>
          <p:nvPr/>
        </p:nvPicPr>
        <p:blipFill>
          <a:blip r:embed="rId1"/>
          <a:stretch/>
        </p:blipFill>
        <p:spPr>
          <a:xfrm>
            <a:off x="6019920" y="457200"/>
            <a:ext cx="2603520" cy="3124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1002_organize_broomcloset_1"/>
          <p:cNvPicPr/>
          <p:nvPr/>
        </p:nvPicPr>
        <p:blipFill>
          <a:blip r:embed="rId2"/>
          <a:stretch/>
        </p:blipFill>
        <p:spPr>
          <a:xfrm>
            <a:off x="3352680" y="2514600"/>
            <a:ext cx="2229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15:04:14Z</dcterms:created>
  <dc:creator>WSFCS Workstation</dc:creator>
  <dc:description/>
  <dc:language>en-US</dc:language>
  <cp:lastModifiedBy>s.brooks</cp:lastModifiedBy>
  <dcterms:modified xsi:type="dcterms:W3CDTF">2011-05-05T14:17:16Z</dcterms:modified>
  <cp:revision>8</cp:revision>
  <dc:subject/>
  <dc:title>7.04 Storage</dc:title>
</cp:coreProperties>
</file>